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A27EF-8E4C-4F7B-A9BA-4CEE30F411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B4694-515D-4F6D-B451-B7D65F13A73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833-27C8-4CEC-B362-AD9E420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CAA-5EC2-4265-A5CF-270D860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D5C-D659-4D3D-AA7B-0ED19413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8DE-5988-4007-BFA5-33CD7E80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13E-C638-485E-B7E6-C7E98AB8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3C5-DC08-40A7-8A08-A797F92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45B-4F8E-44C2-83F9-2B68A9E3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A38-3DC1-4173-9E57-B523DC95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F6B-7A21-4AEE-B892-DB85E656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921-E38E-4288-B29F-AD9B5B04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CBD-4C5F-44B1-9187-93A54969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2B3-BE87-41F9-A73A-7678064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E89EA-617D-4A14-8FD3-24A6EF36FD5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63600" y="2328840"/>
            <a:ext cx="50724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5594400" cy="1180800"/>
            <a:chOff x="2162160" y="905040"/>
            <a:chExt cx="559440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0720" y="1011240"/>
              <a:ext cx="4335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小英雄于连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218320" y="984960"/>
                <a:ext cx="1064520" cy="9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8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4</a:t>
                </a:r>
                <a:endParaRPr b="0" lang="en-US" sz="5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是按什么顺序来写的？这样写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是按照事情发展的顺序来写的。这样写符合事情发展的规律，使事情的交代条理清晰，有始有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26"/>
          <p:cNvSpPr/>
          <p:nvPr/>
        </p:nvSpPr>
        <p:spPr>
          <a:xfrm>
            <a:off x="583200" y="20228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英雄于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1487520" y="2077920"/>
            <a:ext cx="12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年龄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左大括号 6"/>
          <p:cNvSpPr/>
          <p:nvPr/>
        </p:nvSpPr>
        <p:spPr>
          <a:xfrm>
            <a:off x="1285920" y="213372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左大括号 24"/>
          <p:cNvSpPr/>
          <p:nvPr/>
        </p:nvSpPr>
        <p:spPr>
          <a:xfrm flipH="1">
            <a:off x="4865040" y="2225520"/>
            <a:ext cx="199800" cy="3222720"/>
          </a:xfrm>
          <a:custGeom>
            <a:avLst/>
            <a:gdLst>
              <a:gd name="textAreaLeft" fmla="*/ 127800 w 199800"/>
              <a:gd name="textAreaRight" fmla="*/ 200160 w 199800"/>
              <a:gd name="textAreaTop" fmla="*/ 5040 h 3222720"/>
              <a:gd name="textAreaBottom" fmla="*/ 3217680 h 32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7"/>
          <p:cNvSpPr/>
          <p:nvPr/>
        </p:nvSpPr>
        <p:spPr>
          <a:xfrm>
            <a:off x="2416320" y="2090880"/>
            <a:ext cx="37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警惕性很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8"/>
          <p:cNvSpPr/>
          <p:nvPr/>
        </p:nvSpPr>
        <p:spPr>
          <a:xfrm>
            <a:off x="2346480" y="5060880"/>
            <a:ext cx="412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保城市救人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9"/>
          <p:cNvSpPr/>
          <p:nvPr/>
        </p:nvSpPr>
        <p:spPr>
          <a:xfrm>
            <a:off x="1667160" y="506088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功劳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10"/>
          <p:cNvSpPr/>
          <p:nvPr/>
        </p:nvSpPr>
        <p:spPr>
          <a:xfrm>
            <a:off x="1580400" y="371628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聪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26"/>
          <p:cNvSpPr/>
          <p:nvPr/>
        </p:nvSpPr>
        <p:spPr>
          <a:xfrm>
            <a:off x="5393520" y="31878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怀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崇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9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2044800" y="3716280"/>
            <a:ext cx="37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尿灭导火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主要讲了在五百多年前的布鲁塞尔市，于连用尿浇灭了导火线，拯救了整座城市和老百姓的故事，赞扬了于连机智、勇敢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内容占位符 2"/>
          <p:cNvSpPr/>
          <p:nvPr/>
        </p:nvSpPr>
        <p:spPr>
          <a:xfrm>
            <a:off x="996840" y="159228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王二小的故事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河北省涞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á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源县，位于河北省西部，与山西交界，抗日战争时期晋察冀根据地之一。抗日英雄王二小就生长在这里。 王二小带日军走进的山谷，当地叫西北沟，两山一沟，地势十分险要。在山谷的尽头，只有一个方向可以转弯。转过弯，眼前是一个小盆地，两侧立崖高达数十米，直上直下如同刀劈，盆地尽头亦为立壁，一道瀑布飞流而下，形成溪水流出。在军事上这里却是一个死地，只有进口，没有出口，王二小正是舍生忘死，把鬼子带到这个绝地。鬼子发现上当后，先是残忍地剁去二小右手的五个手指，又用刺刀刺向二小的胸膛，把他摔到大石头上。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路军一举全歼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此股日寇，战斗结束后，几个战士冲向二小，当时他还活着，和另外两名受伤的八路军战士一起被送到刘家庄，可惜伤重无治，为国牺牲，三位战士永远长眠在刘家庄的深山老峪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里。当时是涞源县青救会干部张士奎（</a:t>
            </a:r>
            <a:r>
              <a:rPr b="1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ku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）写了王二小在反“扫荡”斗争中，把敌人引进埋伏圈而自己壮烈牺牲的材料，报告给边区青救会的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晋察冀日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在第一版发表了这条消息。词作家方冰、曲作家劫夫，根据这篇报道，在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194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年创作了歌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歌唱二小放牛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。这首歌很快在边区，直至全国传唱开来，这一唱就是几十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"/>
          <p:cNvPicPr/>
          <p:nvPr/>
        </p:nvPicPr>
        <p:blipFill>
          <a:blip r:embed="rId1"/>
          <a:stretch/>
        </p:blipFill>
        <p:spPr>
          <a:xfrm>
            <a:off x="1042920" y="2125800"/>
            <a:ext cx="7234200" cy="3760560"/>
          </a:xfrm>
          <a:prstGeom prst="rect">
            <a:avLst/>
          </a:prstGeom>
          <a:ln w="0">
            <a:noFill/>
          </a:ln>
        </p:spPr>
      </p:pic>
      <p:sp>
        <p:nvSpPr>
          <p:cNvPr id="136" name="矩形 1"/>
          <p:cNvSpPr/>
          <p:nvPr/>
        </p:nvSpPr>
        <p:spPr>
          <a:xfrm>
            <a:off x="1042920" y="2906640"/>
            <a:ext cx="723420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生当作人杰，死亦为鬼雄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夏日绝句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清照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僵卧孤村不自哀，尚思为国戍轮台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十一月四日风雨大作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陆游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8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"/>
          <p:cNvSpPr/>
          <p:nvPr/>
        </p:nvSpPr>
        <p:spPr>
          <a:xfrm>
            <a:off x="1740600" y="1668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孙叔敖勇斩双头蛇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1265400" y="211932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孙叔敖少年时家境贫寒，母子相依为命。孙叔敖有一次上山砍柴遇见一条大蛇，长着两个脑袋。他思忖：曾听乡里人传说人见到双头蛇就会死，逃跑回家也是死，反不如拼死一搏，为乡里人除此祸害。经过一场人与双头蛇的搏斗，他终于将双头蛇打死在山坡上。后来，孙叔敖长大成人，做了楚国的令尹。他还没正式上任，老百姓就已经很信赖他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558720" y="925560"/>
            <a:ext cx="3849840" cy="666720"/>
            <a:chOff x="558720" y="925560"/>
            <a:chExt cx="3849840" cy="666720"/>
          </a:xfrm>
        </p:grpSpPr>
        <p:sp>
          <p:nvSpPr>
            <p:cNvPr id="144" name="圆角矩形 7"/>
            <p:cNvSpPr/>
            <p:nvPr/>
          </p:nvSpPr>
          <p:spPr>
            <a:xfrm>
              <a:off x="1374480" y="106344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16"/>
            <p:cNvSpPr/>
            <p:nvPr/>
          </p:nvSpPr>
          <p:spPr>
            <a:xfrm>
              <a:off x="1634040" y="108252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92556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运用动作描写、心理描写、烘托和铺垫的写作手法和排比的修辞手法，讲了在五百多年前的布鲁塞尔市，于连用尿浇灭了导火线，拯救了整座城市和老百姓的故事，赞扬了于连机智、勇敢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1203480" y="285264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们要在感悟课文内容的基础上，入情入境地读，语调要有所变化，如人们欢庆的场面，要洋溢着喜悦；在危急的时刻，要读出紧张的气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51" name="矩形 1"/>
          <p:cNvSpPr/>
          <p:nvPr/>
        </p:nvSpPr>
        <p:spPr>
          <a:xfrm>
            <a:off x="1532160" y="2041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7"/>
          <p:cNvSpPr/>
          <p:nvPr/>
        </p:nvSpPr>
        <p:spPr>
          <a:xfrm>
            <a:off x="700200" y="108900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5302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美丽的布鲁塞尔迎来了四面八方的游客，请你做个小导游，给他们介绍一下于连铜像的来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892080" y="2165400"/>
            <a:ext cx="77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于连是布鲁塞尔的小英雄。五百多年前布鲁塞尔打败了侵略者，正当人们欢庆胜利的时候，小于连发现一条干涸的深沟里有一根导火线烧着了，这是敌人想炸毁城市。这可怎么办呢？小于连想到事情很危急，他急中生智用尿把导火线浇灭了，保住了这座城市和全城的人。为此，人们为了表彰这位小英雄，就塑造了这座铜像。他成了这座城市的象征和守护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感悟于连机智、勇敢的精神，学习他那种勇敢机智、热爱祖国、热爱人民的美好品质。乐于把这个故事讲给别人听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7"/>
          <p:cNvSpPr/>
          <p:nvPr/>
        </p:nvSpPr>
        <p:spPr>
          <a:xfrm>
            <a:off x="811080" y="1359000"/>
            <a:ext cx="8229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读读认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ì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àn    j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ì     huǒ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  者        欢  庆        敌  军      晚   饭     机  智      火  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    sh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i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è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ǎ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ō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ō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智  者       胜  利       失  败       消  灭       打  造      沟  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è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o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u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ó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ànɡ    y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一 股 味 道        一  座  铜  像           一  根  木  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7167"/>
          <p:cNvSpPr/>
          <p:nvPr/>
        </p:nvSpPr>
        <p:spPr>
          <a:xfrm>
            <a:off x="1658880" y="1992240"/>
            <a:ext cx="754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把拼音和相应的字连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       shènɡ      dí         ɡōu        fàn         bà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敌　 　沟　 　药　 　饭　 　胜　 　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者　 　棒　 　智　 　尿　　 造　 　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       bànɡ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ě        niào       tónɡ       z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7" name="椭圆 1"/>
          <p:cNvSpPr/>
          <p:nvPr/>
        </p:nvSpPr>
        <p:spPr>
          <a:xfrm>
            <a:off x="1658880" y="2763720"/>
            <a:ext cx="819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椭圆 19"/>
          <p:cNvSpPr/>
          <p:nvPr/>
        </p:nvSpPr>
        <p:spPr>
          <a:xfrm>
            <a:off x="2757600" y="2763720"/>
            <a:ext cx="963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20"/>
          <p:cNvSpPr/>
          <p:nvPr/>
        </p:nvSpPr>
        <p:spPr>
          <a:xfrm>
            <a:off x="3821040" y="2763720"/>
            <a:ext cx="8193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椭圆 21"/>
          <p:cNvSpPr/>
          <p:nvPr/>
        </p:nvSpPr>
        <p:spPr>
          <a:xfrm>
            <a:off x="4776840" y="2763720"/>
            <a:ext cx="817560" cy="3621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椭圆 22"/>
          <p:cNvSpPr/>
          <p:nvPr/>
        </p:nvSpPr>
        <p:spPr>
          <a:xfrm>
            <a:off x="5859360" y="2778120"/>
            <a:ext cx="817560" cy="361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椭圆 23"/>
          <p:cNvSpPr/>
          <p:nvPr/>
        </p:nvSpPr>
        <p:spPr>
          <a:xfrm>
            <a:off x="6967440" y="2739960"/>
            <a:ext cx="8193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 24"/>
          <p:cNvSpPr/>
          <p:nvPr/>
        </p:nvSpPr>
        <p:spPr>
          <a:xfrm>
            <a:off x="1547640" y="551196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25"/>
          <p:cNvSpPr/>
          <p:nvPr/>
        </p:nvSpPr>
        <p:spPr>
          <a:xfrm>
            <a:off x="2646360" y="5511960"/>
            <a:ext cx="96372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26"/>
          <p:cNvSpPr/>
          <p:nvPr/>
        </p:nvSpPr>
        <p:spPr>
          <a:xfrm>
            <a:off x="3710160" y="551196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27"/>
          <p:cNvSpPr/>
          <p:nvPr/>
        </p:nvSpPr>
        <p:spPr>
          <a:xfrm>
            <a:off x="4856040" y="5511960"/>
            <a:ext cx="8193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28"/>
          <p:cNvSpPr/>
          <p:nvPr/>
        </p:nvSpPr>
        <p:spPr>
          <a:xfrm>
            <a:off x="5950080" y="5526000"/>
            <a:ext cx="817560" cy="3603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29"/>
          <p:cNvSpPr/>
          <p:nvPr/>
        </p:nvSpPr>
        <p:spPr>
          <a:xfrm>
            <a:off x="7005600" y="5486400"/>
            <a:ext cx="819360" cy="3618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3"/>
          <p:cNvSpPr/>
          <p:nvPr/>
        </p:nvSpPr>
        <p:spPr>
          <a:xfrm>
            <a:off x="2068560" y="3139920"/>
            <a:ext cx="204948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30"/>
          <p:cNvSpPr/>
          <p:nvPr/>
        </p:nvSpPr>
        <p:spPr>
          <a:xfrm>
            <a:off x="3187800" y="3125880"/>
            <a:ext cx="3079800" cy="830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31"/>
          <p:cNvSpPr/>
          <p:nvPr/>
        </p:nvSpPr>
        <p:spPr>
          <a:xfrm flipH="1">
            <a:off x="2068560" y="3139920"/>
            <a:ext cx="216216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33"/>
          <p:cNvSpPr/>
          <p:nvPr/>
        </p:nvSpPr>
        <p:spPr>
          <a:xfrm flipH="1">
            <a:off x="3126960" y="3139920"/>
            <a:ext cx="2057400" cy="765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接连接符 35"/>
          <p:cNvSpPr/>
          <p:nvPr/>
        </p:nvSpPr>
        <p:spPr>
          <a:xfrm flipH="1">
            <a:off x="5184720" y="3174840"/>
            <a:ext cx="1082880" cy="695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接连接符 38"/>
          <p:cNvSpPr/>
          <p:nvPr/>
        </p:nvSpPr>
        <p:spPr>
          <a:xfrm flipH="1">
            <a:off x="7376760" y="3125880"/>
            <a:ext cx="88920" cy="695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直接连接符 41"/>
          <p:cNvSpPr/>
          <p:nvPr/>
        </p:nvSpPr>
        <p:spPr>
          <a:xfrm>
            <a:off x="2014560" y="4756320"/>
            <a:ext cx="204948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接连接符 42"/>
          <p:cNvSpPr/>
          <p:nvPr/>
        </p:nvSpPr>
        <p:spPr>
          <a:xfrm>
            <a:off x="3094200" y="4756320"/>
            <a:ext cx="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接连接符 44"/>
          <p:cNvSpPr/>
          <p:nvPr/>
        </p:nvSpPr>
        <p:spPr>
          <a:xfrm>
            <a:off x="4191120" y="4756320"/>
            <a:ext cx="318600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直接连接符 46"/>
          <p:cNvSpPr/>
          <p:nvPr/>
        </p:nvSpPr>
        <p:spPr>
          <a:xfrm>
            <a:off x="5265720" y="4745160"/>
            <a:ext cx="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接连接符 48"/>
          <p:cNvSpPr/>
          <p:nvPr/>
        </p:nvSpPr>
        <p:spPr>
          <a:xfrm flipH="1">
            <a:off x="2014560" y="4724280"/>
            <a:ext cx="433872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接连接符 50"/>
          <p:cNvSpPr/>
          <p:nvPr/>
        </p:nvSpPr>
        <p:spPr>
          <a:xfrm flipH="1">
            <a:off x="6353280" y="4756320"/>
            <a:ext cx="1023840" cy="73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790560" y="1514520"/>
            <a:ext cx="742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我能写得既正确又漂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ì                    qìnɡ  shènɡ l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民都在欢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忽然于连闻到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股火药味，发现一条点燃的导火线，他急中生智用尿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i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图片 1" descr=""/>
          <p:cNvPicPr/>
          <p:nvPr/>
        </p:nvPicPr>
        <p:blipFill>
          <a:blip r:embed="rId1"/>
          <a:stretch/>
        </p:blipFill>
        <p:spPr>
          <a:xfrm>
            <a:off x="4248000" y="2624040"/>
            <a:ext cx="1152720" cy="598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2" descr=""/>
          <p:cNvPicPr/>
          <p:nvPr/>
        </p:nvPicPr>
        <p:blipFill>
          <a:blip r:embed="rId2"/>
          <a:stretch/>
        </p:blipFill>
        <p:spPr>
          <a:xfrm>
            <a:off x="1568520" y="2624040"/>
            <a:ext cx="601560" cy="5986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5" descr=""/>
          <p:cNvPicPr/>
          <p:nvPr/>
        </p:nvPicPr>
        <p:blipFill>
          <a:blip r:embed="rId3"/>
          <a:stretch/>
        </p:blipFill>
        <p:spPr>
          <a:xfrm>
            <a:off x="3540240" y="2624040"/>
            <a:ext cx="603000" cy="5986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7" descr=""/>
          <p:cNvPicPr/>
          <p:nvPr/>
        </p:nvPicPr>
        <p:blipFill>
          <a:blip r:embed="rId4"/>
          <a:stretch/>
        </p:blipFill>
        <p:spPr>
          <a:xfrm>
            <a:off x="868320" y="4322880"/>
            <a:ext cx="603360" cy="598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5"/>
          <p:cNvSpPr/>
          <p:nvPr/>
        </p:nvSpPr>
        <p:spPr>
          <a:xfrm>
            <a:off x="1687320" y="269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3659760" y="268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4376880" y="269244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   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8"/>
          <p:cNvSpPr/>
          <p:nvPr/>
        </p:nvSpPr>
        <p:spPr>
          <a:xfrm>
            <a:off x="987120" y="439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1227240" y="2475000"/>
            <a:ext cx="768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有趣的加法。（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组新字再组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＋生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广＋大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宀＋  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一＋火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9" descr="定"/>
          <p:cNvPicPr/>
          <p:nvPr/>
        </p:nvPicPr>
        <p:blipFill>
          <a:blip r:embed="rId1"/>
          <a:stretch/>
        </p:blipFill>
        <p:spPr>
          <a:xfrm>
            <a:off x="1863720" y="3780000"/>
            <a:ext cx="347760" cy="260280"/>
          </a:xfrm>
          <a:prstGeom prst="rect">
            <a:avLst/>
          </a:prstGeom>
          <a:ln w="0">
            <a:noFill/>
          </a:ln>
        </p:spPr>
      </p:pic>
      <p:sp>
        <p:nvSpPr>
          <p:cNvPr id="192" name="矩形 2"/>
          <p:cNvSpPr/>
          <p:nvPr/>
        </p:nvSpPr>
        <p:spPr>
          <a:xfrm>
            <a:off x="2576520" y="3141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3632040" y="3141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404760" y="3129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3"/>
          <p:cNvSpPr/>
          <p:nvPr/>
        </p:nvSpPr>
        <p:spPr>
          <a:xfrm>
            <a:off x="7380000" y="313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欢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35"/>
          <p:cNvSpPr/>
          <p:nvPr/>
        </p:nvSpPr>
        <p:spPr>
          <a:xfrm>
            <a:off x="2574000" y="3679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7"/>
          <p:cNvSpPr/>
          <p:nvPr/>
        </p:nvSpPr>
        <p:spPr>
          <a:xfrm>
            <a:off x="3662280" y="366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一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8"/>
          <p:cNvSpPr/>
          <p:nvPr/>
        </p:nvSpPr>
        <p:spPr>
          <a:xfrm>
            <a:off x="6462720" y="36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0"/>
          <p:cNvSpPr/>
          <p:nvPr/>
        </p:nvSpPr>
        <p:spPr>
          <a:xfrm>
            <a:off x="7380000" y="36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灭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一说课文写了一件什么事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于连为什么能发现导火线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课文是按什么顺序来写的？这样写有什么好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于连发现导火线后是怎么想的？又是怎么做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434320" y="190692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于连是一个怎样的孩子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508640" y="127656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机智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295200" y="900000"/>
            <a:ext cx="85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当他经过一座院子时，忽然闻到一股火药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味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èi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他发现院子里有火星在闪耀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于连急忙跑过去，只见一条又长又粗的导火线，在干涸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深沟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ōu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里咝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ī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咝地燃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á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烧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云形 1"/>
          <p:cNvGrpSpPr/>
          <p:nvPr/>
        </p:nvGrpSpPr>
        <p:grpSpPr>
          <a:xfrm>
            <a:off x="4718160" y="2425680"/>
            <a:ext cx="3865320" cy="987480"/>
            <a:chOff x="4718160" y="2425680"/>
            <a:chExt cx="3865320" cy="987480"/>
          </a:xfrm>
        </p:grpSpPr>
        <p:pic>
          <p:nvPicPr>
            <p:cNvPr id="84" name="云形 1" descr=""/>
            <p:cNvPicPr/>
            <p:nvPr/>
          </p:nvPicPr>
          <p:blipFill>
            <a:blip r:embed="rId1"/>
            <a:stretch/>
          </p:blipFill>
          <p:spPr>
            <a:xfrm>
              <a:off x="4718160" y="2425680"/>
              <a:ext cx="3865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362640" y="265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动作描写、烘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14"/>
          <p:cNvSpPr/>
          <p:nvPr/>
        </p:nvSpPr>
        <p:spPr>
          <a:xfrm>
            <a:off x="738360" y="4191120"/>
            <a:ext cx="76546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闻到”“发现”“跑过去”这一系列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明于连是一个细心、善于观察的孩子。同时这也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烘托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出当时情况的紧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1"/>
          <p:cNvGrpSpPr/>
          <p:nvPr/>
        </p:nvGrpSpPr>
        <p:grpSpPr>
          <a:xfrm>
            <a:off x="401760" y="3289320"/>
            <a:ext cx="7683480" cy="560520"/>
            <a:chOff x="401760" y="3289320"/>
            <a:chExt cx="7683480" cy="560520"/>
          </a:xfrm>
        </p:grpSpPr>
        <p:sp>
          <p:nvSpPr>
            <p:cNvPr id="88" name="直接连接符 12"/>
            <p:cNvSpPr/>
            <p:nvPr/>
          </p:nvSpPr>
          <p:spPr>
            <a:xfrm>
              <a:off x="401760" y="38498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任意多边形 13"/>
            <p:cNvSpPr/>
            <p:nvPr/>
          </p:nvSpPr>
          <p:spPr>
            <a:xfrm>
              <a:off x="401760" y="328932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这两句话中可以知道于连是个怎样的孩子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到今天，人们仍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éng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然可以看到铜像上喷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ē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出的那股清泉飘洒在美丽的布鲁塞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3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93" name="直接连接符 4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任意多边形 5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哪些词句可以看出人们对于连的怀念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直到今天”“仍然”“清泉飘洒”可以看出人们对于连的怀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977760" y="371808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于连是一个勇敢、机智、聪明的小男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连是一个怎样的孩子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一说课文写了一件什么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写了一件五百多年前，当人们在欢庆胜利时，一个不到十岁的小男孩发现了敌人点燃的导火线，他急中生智，用尿把导火线浇灭，保住了整座城市和全城的人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连为什么能发现导火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是因为他正好路过那里；二是因为他闻到了火药味；三是因为他是一个细心的孩子，善于观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连发现导火线后是怎么想的？又是怎么做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230480" y="26258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7189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于连发现导火线后想：这一定是敌人想要炸毁这座城市，他要保护这座城市；他想了许多处理这件事的办法。最后他用自己的尿把导火线浇灭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4:11:06Z</dcterms:modified>
  <cp:revision>44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